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12.jpeg" ContentType="image/jpeg"/>
  <Override PartName="/ppt/media/image6.wmf" ContentType="image/x-wmf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5D9-F7E8-4402-814D-BE24541F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C1F-AB3F-460D-8F60-2D40FA52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854-502E-4467-A9FE-48421CC5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353-4E6D-4215-9073-3384B618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F79-CCCA-46A7-AA4C-B410158F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1ED-8F2F-482E-BCA7-1C4E94D9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FFB-19BE-45E1-AAF5-DC891E8C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CBD-9EB7-4F05-A43D-0B1B912A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C5B-3425-48E1-8D2D-7FF1EAB6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0E5-B83B-4562-9D8F-9D0D8452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1FB-602D-4AB9-8F45-2B22755C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4AD-259F-49EF-B088-4C22775D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0036-BB17-41AB-BBBD-704B46BE1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xialearning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Computer Parts and Func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783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Speaker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vides sound for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ers with visual impairments to use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Printer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kes information from the computer and prints it o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Image taken from http://www.amazon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3086280"/>
            <a:ext cx="3809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How A Computer Work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2209680"/>
          <a:ext cx="8458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58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Inpu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 of the things put into the computer while it is being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vided by the user-- that’s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Softwar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rograms we use that run on a 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ored on a hard drive, disk, CD, or a DV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Image taken from </a:t>
            </a:r>
            <a:r>
              <a:rPr b="0" lang="en-US" sz="800" spc="-1" strike="noStrike" u="sng">
                <a:solidFill>
                  <a:srgbClr val="66ccff"/>
                </a:solidFill>
                <a:uFillTx/>
                <a:latin typeface="Lucida Grande"/>
                <a:hlinkClick r:id="rId1"/>
              </a:rPr>
              <a:t>http://www.lexialearning.com/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889360"/>
            <a:ext cx="38098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Hardwar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hysical parts of the computer that can be touched and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2265480"/>
            <a:ext cx="38098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CPU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uns programs we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oes all the “thinking”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kes in information from mouse, keyboard, other peripherals and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hares information using the monitor, printer, and spea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77040" y="1981080"/>
            <a:ext cx="21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Keyboar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 to put information into the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 to tell the computer what to 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Image taken from </a:t>
            </a: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www.sandecell.com/pics/1/large/64370.jp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Mous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 to tell the computer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s at least one but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ome have a little ball in the bot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ome have a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Image taken from 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http://www.germes-online.com/direct/dbimage/50305292/Computer_Mouse.jp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Monitor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ows us what we are doing with the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 to interact with the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Image from 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http://www.safecomputingtips.com/images/ergonomic-monitor.jp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125800"/>
            <a:ext cx="3809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6:39Z</dcterms:created>
  <dc:creator>Nicole Meintz</dc:creator>
  <dc:description/>
  <dc:language>en-US</dc:language>
  <cp:lastModifiedBy>Franklin High School</cp:lastModifiedBy>
  <dcterms:modified xsi:type="dcterms:W3CDTF">2008-04-04T19:48:58Z</dcterms:modified>
  <cp:revision>4</cp:revision>
  <dc:subject/>
  <dc:title>Computer Parts and Functions</dc:title>
</cp:coreProperties>
</file>